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0907-D8C4-4419-BD7C-543705B47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B2C4-4256-4BC0-B044-62868DF3A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4011-46EF-4C98-B7CC-4635015B8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E2BF-13D4-4158-9E83-ED7917FE8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0AD7-0C1B-4CDA-B902-F3663A8C2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CE54-DEBA-4AE7-B16C-EFC45DB8A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9FA8-1AD5-487A-B80D-57EE0D777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6CF6-8690-4029-A248-22FD36E1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8B81-211C-4A01-889C-A386B936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A2A-B633-46CB-ADD8-46D93441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68B0-08A8-4D09-87C2-6A76F691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708-3DF8-4922-856D-F6575B43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864-C87F-485A-8049-3A7BF814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5A0-707B-4609-8E91-B6D0A541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3FC-6918-4B43-9C19-3FACB153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AFE-6E8E-4213-9210-F4BC28FC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5C4-6A0C-4C7D-86DA-98F77A10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BDB-F045-423F-98EF-5450EDF7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9CEA-6751-4209-8724-C02EB9B9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4EAC-AD80-4F7C-95D9-EE140EFBC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30481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3124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Hindu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topo-asia"/>
          <p:cNvPicPr/>
          <p:nvPr/>
        </p:nvPicPr>
        <p:blipFill>
          <a:blip r:embed="rId1"/>
          <a:srcRect l="0" t="0" r="728" b="0"/>
          <a:stretch/>
        </p:blipFill>
        <p:spPr>
          <a:xfrm>
            <a:off x="3276720" y="380880"/>
            <a:ext cx="5410080" cy="54500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5"/>
          <p:cNvSpPr/>
          <p:nvPr/>
        </p:nvSpPr>
        <p:spPr>
          <a:xfrm>
            <a:off x="5573880" y="2209680"/>
            <a:ext cx="1323720" cy="13464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w="834" h="848">
                <a:moveTo>
                  <a:pt x="54" y="250"/>
                </a:moveTo>
                <a:cubicBezTo>
                  <a:pt x="50" y="242"/>
                  <a:pt x="42" y="234"/>
                  <a:pt x="42" y="226"/>
                </a:cubicBezTo>
                <a:cubicBezTo>
                  <a:pt x="41" y="217"/>
                  <a:pt x="77" y="150"/>
                  <a:pt x="82" y="146"/>
                </a:cubicBezTo>
                <a:cubicBezTo>
                  <a:pt x="90" y="137"/>
                  <a:pt x="126" y="138"/>
                  <a:pt x="137" y="133"/>
                </a:cubicBezTo>
                <a:cubicBezTo>
                  <a:pt x="147" y="101"/>
                  <a:pt x="148" y="69"/>
                  <a:pt x="180" y="59"/>
                </a:cubicBezTo>
                <a:cubicBezTo>
                  <a:pt x="203" y="23"/>
                  <a:pt x="190" y="23"/>
                  <a:pt x="228" y="0"/>
                </a:cubicBezTo>
                <a:cubicBezTo>
                  <a:pt x="228" y="0"/>
                  <a:pt x="280" y="12"/>
                  <a:pt x="284" y="16"/>
                </a:cubicBezTo>
                <a:cubicBezTo>
                  <a:pt x="292" y="24"/>
                  <a:pt x="291" y="40"/>
                  <a:pt x="300" y="49"/>
                </a:cubicBezTo>
                <a:cubicBezTo>
                  <a:pt x="305" y="55"/>
                  <a:pt x="326" y="92"/>
                  <a:pt x="334" y="96"/>
                </a:cubicBezTo>
                <a:cubicBezTo>
                  <a:pt x="358" y="108"/>
                  <a:pt x="402" y="144"/>
                  <a:pt x="425" y="160"/>
                </a:cubicBezTo>
                <a:cubicBezTo>
                  <a:pt x="456" y="207"/>
                  <a:pt x="496" y="183"/>
                  <a:pt x="558" y="187"/>
                </a:cubicBezTo>
                <a:cubicBezTo>
                  <a:pt x="622" y="190"/>
                  <a:pt x="653" y="193"/>
                  <a:pt x="718" y="197"/>
                </a:cubicBezTo>
                <a:cubicBezTo>
                  <a:pt x="756" y="198"/>
                  <a:pt x="796" y="151"/>
                  <a:pt x="834" y="154"/>
                </a:cubicBezTo>
                <a:cubicBezTo>
                  <a:pt x="831" y="175"/>
                  <a:pt x="832" y="197"/>
                  <a:pt x="826" y="218"/>
                </a:cubicBezTo>
                <a:cubicBezTo>
                  <a:pt x="823" y="225"/>
                  <a:pt x="812" y="227"/>
                  <a:pt x="809" y="235"/>
                </a:cubicBezTo>
                <a:cubicBezTo>
                  <a:pt x="795" y="261"/>
                  <a:pt x="790" y="295"/>
                  <a:pt x="777" y="323"/>
                </a:cubicBezTo>
                <a:cubicBezTo>
                  <a:pt x="774" y="352"/>
                  <a:pt x="773" y="382"/>
                  <a:pt x="769" y="412"/>
                </a:cubicBezTo>
                <a:cubicBezTo>
                  <a:pt x="767" y="420"/>
                  <a:pt x="769" y="437"/>
                  <a:pt x="761" y="437"/>
                </a:cubicBezTo>
                <a:cubicBezTo>
                  <a:pt x="752" y="437"/>
                  <a:pt x="757" y="419"/>
                  <a:pt x="753" y="412"/>
                </a:cubicBezTo>
                <a:cubicBezTo>
                  <a:pt x="746" y="402"/>
                  <a:pt x="673" y="403"/>
                  <a:pt x="665" y="395"/>
                </a:cubicBezTo>
                <a:cubicBezTo>
                  <a:pt x="619" y="397"/>
                  <a:pt x="646" y="427"/>
                  <a:pt x="601" y="432"/>
                </a:cubicBezTo>
                <a:cubicBezTo>
                  <a:pt x="560" y="435"/>
                  <a:pt x="526" y="469"/>
                  <a:pt x="505" y="501"/>
                </a:cubicBezTo>
                <a:cubicBezTo>
                  <a:pt x="492" y="538"/>
                  <a:pt x="446" y="586"/>
                  <a:pt x="425" y="619"/>
                </a:cubicBezTo>
                <a:cubicBezTo>
                  <a:pt x="410" y="663"/>
                  <a:pt x="406" y="633"/>
                  <a:pt x="438" y="663"/>
                </a:cubicBezTo>
                <a:cubicBezTo>
                  <a:pt x="446" y="689"/>
                  <a:pt x="452" y="757"/>
                  <a:pt x="452" y="757"/>
                </a:cubicBezTo>
                <a:cubicBezTo>
                  <a:pt x="478" y="821"/>
                  <a:pt x="490" y="822"/>
                  <a:pt x="452" y="848"/>
                </a:cubicBezTo>
                <a:cubicBezTo>
                  <a:pt x="422" y="845"/>
                  <a:pt x="385" y="832"/>
                  <a:pt x="356" y="827"/>
                </a:cubicBezTo>
                <a:cubicBezTo>
                  <a:pt x="339" y="824"/>
                  <a:pt x="300" y="776"/>
                  <a:pt x="300" y="776"/>
                </a:cubicBezTo>
                <a:cubicBezTo>
                  <a:pt x="291" y="749"/>
                  <a:pt x="260" y="666"/>
                  <a:pt x="244" y="645"/>
                </a:cubicBezTo>
                <a:cubicBezTo>
                  <a:pt x="229" y="605"/>
                  <a:pt x="220" y="571"/>
                  <a:pt x="196" y="533"/>
                </a:cubicBezTo>
                <a:cubicBezTo>
                  <a:pt x="180" y="497"/>
                  <a:pt x="175" y="504"/>
                  <a:pt x="142" y="464"/>
                </a:cubicBezTo>
                <a:cubicBezTo>
                  <a:pt x="122" y="434"/>
                  <a:pt x="37" y="316"/>
                  <a:pt x="14" y="293"/>
                </a:cubicBezTo>
                <a:cubicBezTo>
                  <a:pt x="0" y="265"/>
                  <a:pt x="47" y="257"/>
                  <a:pt x="54" y="250"/>
                </a:cubicBezTo>
                <a:close/>
              </a:path>
            </a:pathLst>
          </a:custGeom>
          <a:gradFill rotWithShape="0">
            <a:gsLst>
              <a:gs pos="0">
                <a:srgbClr val="ff00ff">
                  <a:alpha val="45098"/>
                </a:srgbClr>
              </a:gs>
              <a:gs pos="100000">
                <a:srgbClr val="760076">
                  <a:alpha val="37254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3048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rn Mountai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er Lowlan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ern Plat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physical regions of s"/>
          <p:cNvPicPr/>
          <p:nvPr/>
        </p:nvPicPr>
        <p:blipFill>
          <a:blip r:embed="rId1"/>
          <a:stretch/>
        </p:blipFill>
        <p:spPr>
          <a:xfrm>
            <a:off x="0" y="2665440"/>
            <a:ext cx="4495680" cy="419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Picture 17" descr="Map_Aerial_Himalayas"/>
          <p:cNvPicPr/>
          <p:nvPr/>
        </p:nvPicPr>
        <p:blipFill>
          <a:blip r:embed="rId2"/>
          <a:stretch/>
        </p:blipFill>
        <p:spPr>
          <a:xfrm>
            <a:off x="4572000" y="-304920"/>
            <a:ext cx="4724280" cy="372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source of alluvial life"/>
          <p:cNvPicPr/>
          <p:nvPr/>
        </p:nvPicPr>
        <p:blipFill>
          <a:blip r:embed="rId3"/>
          <a:srcRect l="7777" t="15469" r="4441" b="2432"/>
          <a:stretch/>
        </p:blipFill>
        <p:spPr>
          <a:xfrm>
            <a:off x="4572000" y="1981080"/>
            <a:ext cx="4724280" cy="381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elevation"/>
          <p:cNvPicPr/>
          <p:nvPr/>
        </p:nvPicPr>
        <p:blipFill>
          <a:blip r:embed="rId4"/>
          <a:srcRect l="24435" t="38725" r="8929" b="0"/>
          <a:stretch/>
        </p:blipFill>
        <p:spPr>
          <a:xfrm>
            <a:off x="4572000" y="3733920"/>
            <a:ext cx="4572000" cy="3151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/>
          <p:cNvSpPr/>
          <p:nvPr/>
        </p:nvSpPr>
        <p:spPr>
          <a:xfrm>
            <a:off x="2514600" y="274320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BirdMap"/>
          <p:cNvPicPr/>
          <p:nvPr/>
        </p:nvPicPr>
        <p:blipFill>
          <a:blip r:embed="rId5"/>
          <a:srcRect l="0" t="28541" r="0" b="0"/>
          <a:stretch/>
        </p:blipFill>
        <p:spPr>
          <a:xfrm>
            <a:off x="4952880" y="3429000"/>
            <a:ext cx="441972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19920" y="4723920"/>
            <a:ext cx="22096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nf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or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original forests"/>
          <p:cNvPicPr/>
          <p:nvPr/>
        </p:nvPicPr>
        <p:blipFill>
          <a:blip r:embed="rId1"/>
          <a:stretch/>
        </p:blipFill>
        <p:spPr>
          <a:xfrm>
            <a:off x="0" y="0"/>
            <a:ext cx="5486400" cy="26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global_soils_map_USDA"/>
          <p:cNvPicPr/>
          <p:nvPr/>
        </p:nvPicPr>
        <p:blipFill>
          <a:blip r:embed="rId2"/>
          <a:stretch/>
        </p:blipFill>
        <p:spPr>
          <a:xfrm>
            <a:off x="0" y="2971800"/>
            <a:ext cx="4960800" cy="3182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precipitation__g,property=default"/>
          <p:cNvPicPr/>
          <p:nvPr/>
        </p:nvPicPr>
        <p:blipFill>
          <a:blip r:embed="rId3"/>
          <a:srcRect l="15792" t="0" r="7370" b="0"/>
          <a:stretch/>
        </p:blipFill>
        <p:spPr>
          <a:xfrm>
            <a:off x="4876920" y="1295280"/>
            <a:ext cx="48607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precipitation__g,property=default"/>
          <p:cNvPicPr/>
          <p:nvPr/>
        </p:nvPicPr>
        <p:blipFill>
          <a:blip r:embed="rId1"/>
          <a:srcRect l="15792" t="0" r="7370" b="0"/>
          <a:stretch/>
        </p:blipFill>
        <p:spPr>
          <a:xfrm>
            <a:off x="-4724280" y="-533520"/>
            <a:ext cx="14630400" cy="1003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precipitation__g,property=default"/>
          <p:cNvPicPr/>
          <p:nvPr/>
        </p:nvPicPr>
        <p:blipFill>
          <a:blip r:embed="rId2"/>
          <a:srcRect l="-2598" t="92196" r="56630" b="0"/>
          <a:stretch/>
        </p:blipFill>
        <p:spPr>
          <a:xfrm>
            <a:off x="1523880" y="5105520"/>
            <a:ext cx="533412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global_soils_map_USDA"/>
          <p:cNvPicPr/>
          <p:nvPr/>
        </p:nvPicPr>
        <p:blipFill>
          <a:blip r:embed="rId1"/>
          <a:stretch/>
        </p:blipFill>
        <p:spPr>
          <a:xfrm>
            <a:off x="-5715000" y="-1093680"/>
            <a:ext cx="14096880" cy="904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global_soils_map_USDA"/>
          <p:cNvPicPr/>
          <p:nvPr/>
        </p:nvPicPr>
        <p:blipFill>
          <a:blip r:embed="rId2"/>
          <a:srcRect l="2162" t="59279" r="85949" b="0"/>
          <a:stretch/>
        </p:blipFill>
        <p:spPr>
          <a:xfrm>
            <a:off x="2438280" y="2971800"/>
            <a:ext cx="167652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original forests"/>
          <p:cNvPicPr/>
          <p:nvPr/>
        </p:nvPicPr>
        <p:blipFill>
          <a:blip r:embed="rId1"/>
          <a:stretch/>
        </p:blipFill>
        <p:spPr>
          <a:xfrm>
            <a:off x="-6248520" y="0"/>
            <a:ext cx="14859000" cy="7115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original forests"/>
          <p:cNvPicPr/>
          <p:nvPr/>
        </p:nvPicPr>
        <p:blipFill>
          <a:blip r:embed="rId2"/>
          <a:srcRect l="-1020" t="68545" r="74873" b="0"/>
          <a:stretch/>
        </p:blipFill>
        <p:spPr>
          <a:xfrm>
            <a:off x="685800" y="3809880"/>
            <a:ext cx="38862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" descr="h_l_indian_monsoon.jpg"/>
          <p:cNvPicPr/>
          <p:nvPr/>
        </p:nvPicPr>
        <p:blipFill>
          <a:blip r:embed="rId1"/>
          <a:stretch/>
        </p:blipFill>
        <p:spPr>
          <a:xfrm>
            <a:off x="838080" y="0"/>
            <a:ext cx="7543800" cy="328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monsoon.jpg"/>
          <p:cNvPicPr/>
          <p:nvPr/>
        </p:nvPicPr>
        <p:blipFill>
          <a:blip r:embed="rId2"/>
          <a:stretch/>
        </p:blipFill>
        <p:spPr>
          <a:xfrm>
            <a:off x="457200" y="3986280"/>
            <a:ext cx="3827520" cy="2871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wet streets.jpg"/>
          <p:cNvPicPr/>
          <p:nvPr/>
        </p:nvPicPr>
        <p:blipFill>
          <a:blip r:embed="rId3"/>
          <a:stretch/>
        </p:blipFill>
        <p:spPr>
          <a:xfrm>
            <a:off x="4343400" y="3943440"/>
            <a:ext cx="4419720" cy="2914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2154600" y="31240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soon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3" descr="India-Crop-1973-Map.jpg"/>
          <p:cNvPicPr/>
          <p:nvPr/>
        </p:nvPicPr>
        <p:blipFill>
          <a:blip r:embed="rId1"/>
          <a:stretch/>
        </p:blipFill>
        <p:spPr>
          <a:xfrm>
            <a:off x="0" y="0"/>
            <a:ext cx="882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04:21:06Z</dcterms:created>
  <dc:creator>lucy/laffitte</dc:creator>
  <dc:description/>
  <dc:language>en-US</dc:language>
  <cp:lastModifiedBy>llaffitte</cp:lastModifiedBy>
  <dcterms:modified xsi:type="dcterms:W3CDTF">2011-02-03T16:35:41Z</dcterms:modified>
  <cp:revision>2</cp:revision>
  <dc:subject/>
  <dc:title>Geology Climate  Ecology</dc:title>
</cp:coreProperties>
</file>